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CBA-8F64-4F85-8273-1028C8F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21E-F514-4BE4-A81C-C7DB026D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F14-E7A6-4402-803C-810F3B5D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38D-5B50-442C-817B-AEB5670B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3EF-8B23-495E-9A1F-00A52A1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9D6-CB24-4125-89F9-CDC22844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A62-FA44-4B99-A1E1-39AC73C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E0A-F767-4D1E-9BC2-B7699BD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6E3-7771-4FCD-9FF4-E8F6653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71A-5EDD-4C6C-9648-80DEE06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908-85FD-4ACA-8267-A5F102B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132-CEA0-490C-9F5C-61B4F39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601-6393-4D6A-B9C8-F07C682F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orn in February 6, 1911 in Tampico, Illin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parents were John Edward Reagan and Nelle Wilson Re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religion was the Disciples of Chr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Republ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92760" y="1600200"/>
            <a:ext cx="354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his children, Maureen Elizabeth Reagan,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raduated from Eureka College in 19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governor of California from 1965-19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n actor and a public official before he becam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05240" y="1523880"/>
            <a:ext cx="4381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vice president was George H.W. Bu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ot divorced from Jane Wyman in 1948 and married Nancy Davis on March 4,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icknames were “The Gipper”, “The Great Communicator”, and “Dutc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5000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erved for 8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longest living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oldest elected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nce said “All great changes begin at the dinner t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ns most great changes started at the dinner table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581120"/>
            <a:ext cx="419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lary was $200,000 a year plus $50,000 expense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arch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as an assassination attempt by John W. Hinkley outside Washington D.C. Hilton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on June 5, 2004 in Los Angeles from Alzheimer's dise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42:58Z</dcterms:created>
  <dc:creator>omc</dc:creator>
  <dc:description/>
  <dc:language>en-US</dc:language>
  <cp:lastModifiedBy>omc</cp:lastModifiedBy>
  <dcterms:modified xsi:type="dcterms:W3CDTF">2008-11-20T16:01:57Z</dcterms:modified>
  <cp:revision>5</cp:revision>
  <dc:subject/>
  <dc:title>Ronald Reagan</dc:title>
</cp:coreProperties>
</file>